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78CB-6F53-40B9-AE6E-27C97E6C2E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35D4-BD5C-408E-96DE-C513145AF7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4E8-E7AB-4F44-AFFA-57C0158F669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Verdana"/>
              </a:rPr>
              <a:t>Proiectarea evaluării produselor-model ale “elevilor”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D270-D43A-4557-96E5-13A9303539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7FB-994E-4FCB-B671-3B36CE5317B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8A94-6234-451F-A946-5708D3CC880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838-2D0F-495F-B1B9-F054FBD83E6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0DC-FD4D-4A17-B91D-3EC6EF100EA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5429-AC57-4AC9-BD6C-EA2EA402748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110A-8BF3-43D7-8DB6-95C2419161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788D-9A99-4C86-B5D9-2717277BECB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http://isc4lugojna.wikispaces.com/  http://isc3timisoarana.wikispaces.com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639-B17E-4706-B390-6C1C9B354A7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2970-9220-43E3-AEAE-72E2FBB8F52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828D-91BB-41E5-B70A-084FB1C9F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3249-5F49-4A9C-9FC1-D140992C1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9280-901A-4642-9A77-C18EBC7AA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D468-CF21-4ADF-B3C1-0BF4AB268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97AB-E325-4469-BD0A-82D9B5CBC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2077-19F8-4B12-AE8E-7E6651D80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519A-082C-41B1-B229-812120557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4C85-A55B-44F1-AD22-5ABED7447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2BBD-23DF-41A9-A774-3031ED0E4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5E65-6A2E-439B-8167-90AA5FF9A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2BB9-AA68-4986-A346-C15EC9BE6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3469-D919-4CC6-BE49-5CE22A054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96EC-ECEB-4277-9DF8-59BF714CADB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7F2-236C-4000-8895-C2E7C71B63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6" descr="_x0014_white-slideCraig.png                                           000009C9_x0008_PROJECTS                       00000000: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86080" y="1300320"/>
            <a:ext cx="55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Computers are not magi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3200" spc="-1" strike="noStrike">
                <a:solidFill>
                  <a:srgbClr val="0860a8"/>
                </a:solidFill>
                <a:latin typeface="Verdana"/>
              </a:rPr>
              <a:t>Teachers ar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034960" y="38545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D606-CFA7-43E2-A26B-F841E581E2F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3880" y="29520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800"/>
            </a:b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8640" y="1390680"/>
            <a:ext cx="8955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rea evaluării produselor-model ale “elevilor”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0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9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roiectaţ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 evaluare sumativă destinată produselor-model “ale elevilor”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întrebările de la paginile </a:t>
            </a:r>
            <a:r>
              <a:rPr b="1" lang="fr-FR" sz="1800" spc="-1" strike="noStrike">
                <a:solidFill>
                  <a:srgbClr val="0c2e86"/>
                </a:solidFill>
                <a:latin typeface="Verdana"/>
              </a:rPr>
              <a:t>5.09 – 5.10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entru a identifica obiectivele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aplicaţiei elevulu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3: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rearea unei evaluări a produselor-model “ale elevilor”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11–5.1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funcţie de obiectivele identificate la pasul anterior (TEMA) realizaţi un instrument de evaluare a produsului elevului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OPŢIONAL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Treceţi în revistă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informaţia din aplicaţia Assessing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 Projects </a:t>
            </a: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entru a crea o evaluare</a:t>
            </a:r>
            <a:r>
              <a:rPr b="0" i="1" lang="en-US" sz="16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http://educate.intel.com/ro/AssessingProjects/AssessmentStrategies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4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rearea strategiilor de evaluare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ontinuar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6000" y="1371240"/>
            <a:ext cx="8781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c2e86"/>
                </a:solidFill>
                <a:latin typeface="Verdana"/>
              </a:rPr>
              <a:t>La crearea (modificarea) unei evaluări aveţi în vedere</a:t>
            </a:r>
            <a:r>
              <a:rPr b="1" lang="en-US" sz="22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Rezolvaţi dvs. înşivă sarcina adresată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siguraţi-vă că toate criteriile dvs.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onduc la atingerea obiectivelor ţinti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Limit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ţi numărul de obie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Cereţi opinia atât colegilor, dar şi elevilor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ii într-un limbaj accesibil elevi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Evitaţi termenii ambig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Luaţi în calcul ordinea criteriilor dv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0054-6284-4C5F-B18B-136726F44F8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7942-55C9-4199-A2F5-26B2220330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3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5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Revizuirea produselor-model “ale elevilor”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1840" y="1785960"/>
            <a:ext cx="89121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1: Revederea notiţelor personale, precum şi a observaţiilor colegilor referitoare la activitatea dvs.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notiţele personale din activităţile anterioare pentru a identifica zonele care pot fi îmbunătăţi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Revizuirea produselor-model “ale elevilor”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TEMĂ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Revizuiţi propriul produs-mode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iguraţi-vă că aţi răspuns la toate întrebările din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“ale elevilor” -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4.19) (Mod 4 planificarea în avans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B41F-5CC2-4943-ADF2-F491E750E3C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2800"/>
            </a:br>
            <a:br>
              <a:rPr sz="28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4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16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zuirea 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ului unităţii de învăţare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5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7640" y="2045880"/>
            <a:ext cx="83214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l u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vs.de învăţa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inaliza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unit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a vă monitoriza propriul progr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produselor-model “ale elevilor”, asupra evaluării, asupra secţiuni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plan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ntru a depista obiectivele care încă nu sunt atin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</a:t>
            </a:r>
            <a:r>
              <a:rPr b="1" lang="ro-RO" sz="2400" spc="-1" strike="noStrike">
                <a:solidFill>
                  <a:srgbClr val="0c2e86"/>
                </a:solidFill>
                <a:latin typeface="Arial"/>
              </a:rPr>
              <a:t>5</a:t>
            </a:r>
            <a:r>
              <a:rPr b="1" lang="ro-RO" sz="22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22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1520" y="1371600"/>
            <a:ext cx="821700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recerea în revistă a modul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ncte che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rea ar trebui integrată întregului proiect şi să vizeze toate scopurile propu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rea centrată pe elev ar trebui să se axeze, atât pe conţinuturi, cât şi pe abilităţile necesare în secolul XXI, şi să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defin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că conţinuturile şi deprinderile î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 contex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 proiectulu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Tabelul de descriptori conţin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criteri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co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ana din stâng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-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are identifică obiectiv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descriptor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i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loana din dreapta)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 -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are descriu nivelul de performanţă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rea evaluării sumative pentru stabilirea calităţii produselor şi a performanţe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te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5</a:t>
            </a:r>
            <a:br>
              <a:rPr sz="24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640" y="1863360"/>
            <a:ext cx="82677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2: Consemnarea experienţei de învăţare pe blog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, pe blog-ul personal, asupra activităţilor, deprinderilor şi abordărilor vizate de acest mod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flectaţi asupra modului în care elementul central al acestui modul v-a folosit în planificarea şi crearea unităţii dvs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evalua învăţarea elevi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Cum voi implica elevii în procesul de evalu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veţi în vedere modul în care cunoştinţele acumulate în cadrul acestui modul vă vor influenţa predarea şi implicit, învăţarea elevilor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referire la elementele cheie ale învăţării, la eventuale întrebări şi aspecte ce mai trebuiesc lămurite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000"/>
            </a:br>
            <a:br>
              <a:rPr sz="900"/>
            </a:br>
            <a:r>
              <a:rPr b="1" lang="en-US" sz="9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Planificarea în avans a activităţii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Trecerea în revistă a propriilor produse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3080" y="1924200"/>
            <a:ext cx="826596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folde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roduse-model “ale elevilor”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 ambele tipuri de produse personale, pe baz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scriptorilo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la pagin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16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 întrebărilor de la pagin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5.18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-vă produsul-model creat, folosind instrumentul de evaluare creat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descriptor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cercuiţ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c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reflec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el mai bine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Continu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ţi încercuirea în funcţie de nivelul de performanţă relevat de produ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un ghid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e scor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ţi-l pentru scorarea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ui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Notaţi-vă orice modificare necesară, fie pentru produsul-model, fie pentru instrument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A48-AA07-467C-BD13-C76C7C1B352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Modulul 6: Proiectarea pentru obţinerea succesului în învăţ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52400" y="1190520"/>
          <a:ext cx="7405920" cy="4300560"/>
        </p:xfrm>
        <a:graphic>
          <a:graphicData uri="http://schemas.openxmlformats.org/drawingml/2006/table">
            <a:tbl>
              <a:tblPr/>
              <a:tblGrid>
                <a:gridCol w="2368800"/>
                <a:gridCol w="5037120"/>
              </a:tblGrid>
              <a:tr h="43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ul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Sprijinirea elevului şi stimularea autonomiei în învăţ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trateg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nstru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diferen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a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nei evaluări pentru stimula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nomiei elevului în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material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port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lan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ui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Unit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ţii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a includ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e de susţinere a învăţării pentru toţi ele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c2e86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D:\danav\logo SVC\2007-03-05LogoSIVECO15aniCertif_Ro.jpg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E:\Cantemir 1\GM__2313.jpg"/>
          <p:cNvPicPr/>
          <p:nvPr/>
        </p:nvPicPr>
        <p:blipFill>
          <a:blip r:embed="rId1"/>
          <a:stretch/>
        </p:blipFill>
        <p:spPr>
          <a:xfrm>
            <a:off x="9360" y="3024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–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25480" y="52574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rea proiectelor elevilor</a:t>
            </a:r>
            <a:endParaRPr b="0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7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125280" y="71424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682640" y="698400"/>
            <a:ext cx="71596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Motto : 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Evaluarea corectă a unei nereușite este o reușit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F48F-0ED7-467E-9A8D-28C9FA98D2C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15" descr="D:\danav\Poze\2007-06 (iun.)-17\IM000069.JPG"/>
          <p:cNvPicPr/>
          <p:nvPr/>
        </p:nvPicPr>
        <p:blipFill>
          <a:blip r:embed="rId1"/>
          <a:stretch/>
        </p:blipFill>
        <p:spPr>
          <a:xfrm>
            <a:off x="4741920" y="1654200"/>
            <a:ext cx="4437000" cy="2925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885960"/>
            <a:ext cx="42670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vilor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3200" y="5370480"/>
            <a:ext cx="80996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203040"/>
            <a:ext cx="44416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  <a:ea typeface="Times New Roman"/>
              </a:rPr>
              <a:t>Unde ne află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edarea prin proiec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 şi designul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propriei u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it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net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ca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 predării şi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4: Cre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 unor </a:t>
            </a:r>
            <a:br>
              <a:rPr sz="1600"/>
            </a:b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-mode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e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l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levilor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nt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public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ţi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wiki, blog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9C0D-49B4-439F-88EB-F871AD296C5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1480" y="4432320"/>
            <a:ext cx="8607240" cy="16113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se poate folosi, efectiv, tehnologia informaţie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entru a sprijini şi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implica elevii în proces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31840" y="542880"/>
          <a:ext cx="8607240" cy="3886200"/>
        </p:xfrm>
        <a:graphic>
          <a:graphicData uri="http://schemas.openxmlformats.org/drawingml/2006/table">
            <a:tbl>
              <a:tblPr/>
              <a:tblGrid>
                <a:gridCol w="2535120"/>
                <a:gridCol w="6072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rea proiectelor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valuarea formativă şi sumativ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a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Ob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ine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feedback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în scopul îmbunătăţirii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el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alităţ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evaluarea practicilor curente de evaluare folosite de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lizarea unui prim rezumat al evaluării pentru unitatea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 unei evaluăr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-model pentru elev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duselor-model pentru elevi, pe baza evaluări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priului plan al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F845-3E6D-41D3-896E-04A82362DEF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1036"/>
          <p:cNvSpPr/>
          <p:nvPr/>
        </p:nvSpPr>
        <p:spPr>
          <a:xfrm>
            <a:off x="174600" y="285840"/>
            <a:ext cx="8461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ătre ce ne îndreptă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1037"/>
          <p:cNvSpPr/>
          <p:nvPr/>
        </p:nvSpPr>
        <p:spPr>
          <a:xfrm>
            <a:off x="203040" y="1509840"/>
            <a:ext cx="4456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6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entru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cces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în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e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timularea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nomi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i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7: Facilit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cesului de predare –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-evaluare prin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hnolog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ei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formaţie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facilit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ezentarea portofoliilor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Discutarea rezultatelor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769ed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769ed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043" descr="E:\Cantemir 1\GM__2346.jpg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260280" y="4092480"/>
            <a:ext cx="43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1D8-1FE7-48AD-83C8-6A6FF32F89D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659480" y="272880"/>
            <a:ext cx="4484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732200" y="2379600"/>
            <a:ext cx="441180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6" descr="E:\Cantemir 1\GM__2186.jpg"/>
          <p:cNvPicPr/>
          <p:nvPr/>
        </p:nvPicPr>
        <p:blipFill>
          <a:blip r:embed="rId1"/>
          <a:stretch/>
        </p:blipFill>
        <p:spPr>
          <a:xfrm>
            <a:off x="0" y="285840"/>
            <a:ext cx="3962520" cy="4895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4489560" y="0"/>
            <a:ext cx="4654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Lucru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l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în perechi şi schimb de opini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rea f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eedback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-ulu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n scopul îmbunătăţirii produselor-model “ale elevilor”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5.0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192560" y="2160720"/>
            <a:ext cx="495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76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cu un coleg propriul produs-model creat pentru ele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olicitaţi sugest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 privire la modul în care vă puteţi îmbunătăţi model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ți şi folosiţi fişa de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 “ale elevilor”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 la (4.19) (Mod 4 planificarea în avans) pentru repe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l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în discuţi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3CB-E53D-422B-AA46-9B6E43AFE1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1680" y="272520"/>
            <a:ext cx="8301240" cy="13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Pract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i p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edagog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e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20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 min)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Implicarea elevilor în procesul de evaluare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6640" y="1496880"/>
            <a:ext cx="83962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mpărţiţi-vă în grupur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brainstormingul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pentru a alcătui o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listă de probleme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e care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fesorul le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oate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întâmpină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atunci când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implică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elevii în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rocesul de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. discutaţi în grupul dvs. următoarel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are dintre probleme vor fi pentru dvs. cel mai greu de depăşit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Ce soluţii gasiţi pentru a rezolva aceste probleme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Scrieţi ideile grupului pe site-ul wiki, sectiunea discuţii Modul 5 sub forma unui tabel cu două coloane – </a:t>
            </a:r>
            <a:r>
              <a:rPr b="1" lang="ro-RO" sz="2000" spc="-1" strike="noStrike">
                <a:solidFill>
                  <a:srgbClr val="ff5c00"/>
                </a:solidFill>
                <a:latin typeface="Verdana"/>
              </a:rPr>
              <a:t>Provocări şi Soluţii </a:t>
            </a:r>
            <a:r>
              <a:rPr b="1" lang="ro-RO" sz="2000" spc="-1" strike="noStrike">
                <a:solidFill>
                  <a:srgbClr val="ff0000"/>
                </a:solidFill>
                <a:latin typeface="Verdana"/>
              </a:rPr>
              <a:t>http://isc4lugojna.wikispaces.com/Modul+5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Treceţi în revistă şi ideile celorlalte grupuri şi eventual revizuiți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A6CC-DB30-499E-BF35-14A51327D0F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3013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c2e86"/>
                </a:solidFill>
                <a:latin typeface="Verdana"/>
              </a:rPr>
              <a:t>Activitatea 1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0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min.)</a:t>
            </a:r>
            <a:br>
              <a:rPr sz="1400"/>
            </a:br>
            <a:r>
              <a:rPr b="0" lang="ro-RO" sz="2800" spc="-1" strike="noStrike">
                <a:solidFill>
                  <a:srgbClr val="0c2e86"/>
                </a:solidFill>
                <a:latin typeface="Verdana"/>
              </a:rPr>
              <a:t>Analiza strategiilor de evaluare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6240" y="1523880"/>
            <a:ext cx="889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Reflect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re asupra evaluării practicate la clasă,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Teoria si practica evaluării,</a:t>
            </a:r>
            <a:r>
              <a:rPr b="1" lang="vi-VN" sz="1800" spc="-1" strike="noStrike">
                <a:solidFill>
                  <a:srgbClr val="0860a8"/>
                </a:solidFill>
                <a:latin typeface="Verdana"/>
              </a:rPr>
              <a:t> Disfuncţii în evaluarea pedagogică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.</a:t>
            </a:r>
            <a:br>
              <a:rPr sz="1800"/>
            </a:b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4)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 Modulul 5 activitatea 1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tipurilor de evaluare practicate de dumneavoastră, la clasă, până în prezent. 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Analizaţi documentele Evaluare X de pe wik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Opţional - Accesaţi Intel</a:t>
            </a:r>
            <a:r>
              <a:rPr b="0" lang="ro-RO" sz="18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Education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nalizaţi un plan de evalu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http://educate.intel.com/ro/assessingprojects/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Notaţi ideile pe care aţi dori să le folosiţi în planul dvs.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2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: Analizarea planului evaluării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(5.06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alizaţi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planului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5.06)Modulul 5 activitatea 1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F56-FDA5-41EC-879D-8136ABC7676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680" y="287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oră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ş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4240" y="1625760"/>
            <a:ext cx="8969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Foc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liz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priul 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unităţii de învăţ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revizuiţi-vă schiţa de la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Planificarea evaluării – Grafic de tim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tilizaţi fişierul </a:t>
            </a:r>
            <a:r>
              <a:rPr b="1" i="1" lang="ro-RO" sz="1800" spc="-1" strike="noStrike" u="sng">
                <a:solidFill>
                  <a:srgbClr val="0c2e86"/>
                </a:solidFill>
                <a:uFillTx/>
                <a:latin typeface="Verdana"/>
              </a:rPr>
              <a:t>Planificarea evaluării elevilor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– CD Modul 5/Activitatea 2 pentru a stabili şi descrie instrumentele de evaluare pe care le veţi utiliza pe parcurs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nsultaţi şi </a:t>
            </a:r>
            <a:r>
              <a:rPr b="1" i="1" lang="ro-RO" sz="1800" spc="-1" strike="noStrike">
                <a:solidFill>
                  <a:srgbClr val="c00000"/>
                </a:solidFill>
                <a:latin typeface="Verdana"/>
              </a:rPr>
              <a:t>Planul de evaluare</a:t>
            </a:r>
            <a:r>
              <a:rPr b="0" i="1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activitatea anterioară la care aţi adăugat propriile notiţ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alvaţi  şi utilizaţi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Lista de verificare a planului evaluării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directorul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 Portofoliu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Ad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ugaţi noi tehnici/instrumente de evaluare în secţiune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in p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i dvs. de învăţ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cepeţi lucrul la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Rezumat/Sumar evaluare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in </a:t>
            </a:r>
            <a:r>
              <a:rPr b="1" lang="ro-RO" sz="1800" spc="-1" strike="noStrike">
                <a:solidFill>
                  <a:srgbClr val="c00000"/>
                </a:solidFill>
                <a:latin typeface="Verdana"/>
              </a:rPr>
              <a:t>Planul Unităţii de Învăţare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lanuri de evaluare – exemple reprezenta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info2</cp:lastModifiedBy>
  <cp:lastPrinted>2006-11-14T00:45:04Z</cp:lastPrinted>
  <dcterms:modified xsi:type="dcterms:W3CDTF">2011-04-01T12:59:01Z</dcterms:modified>
  <cp:revision>414</cp:revision>
  <dc:subject/>
  <dc:title>Presentation Title Goes Here</dc:title>
</cp:coreProperties>
</file>